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4.png" ContentType="image/png"/>
  <Override PartName="/ppt/media/image22.wmf" ContentType="image/x-wmf"/>
  <Override PartName="/ppt/media/image20.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3202-34B6-4AEB-8668-51326C14B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121B-6446-4BAC-B6E8-85D52B6F3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B663-5153-40D9-9E30-BA13E58E7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A3BF-9B2D-48AF-9192-5A2A04D88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A8129-F702-441A-B1E9-589DFEA66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7E05-EBD5-42CA-A555-3584657E3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292D2-FBD2-49AF-8BB8-6ABDEA9AA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732D8-6C16-4D9A-8415-C293B19F7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8D5E4-4CF1-4A04-9B82-8C053B0B2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76B36-4511-47F2-B9D7-3595274ED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CEEA0-2BB4-4B56-ABB2-879B70A5D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C6D01-5E33-45BE-A555-91336FD49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AFA59-332D-435D-A126-8FE03DEB7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0261-188D-419D-959E-8A1D4B9D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042B5-ED6B-4440-AA4C-73BE1BD0F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46CF6-CD5E-49C9-9C41-4C5B1A343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82DE6-FF4D-4CFE-A75F-16DD390FE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FDEAA-6C5C-4BC9-B62C-624772198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7C4EF-1C43-4541-9B71-67218C877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7A8F72-17CE-4985-9699-EC5710809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D01E4-180F-4638-B51F-3E2C2EE86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80E8F-80AB-4AF9-B93B-A40713BE7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DEC83-4122-4379-B5F1-D509353C5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7DEB0-825E-4D47-9622-EA9F2F857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04E4D-75F7-49E9-AA2D-05D7986C6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EDB94-44F8-4D39-8A1B-6B56760A6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910FF-D2A5-4433-AE2D-820D959BF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74711-7826-47ED-872C-4C12F93E8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2D14A-5772-416E-BB3E-3E37AF642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80234-D9F2-45D7-8B37-3A25BF410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BDA7E0-7E7E-4E9C-B756-9FF71AB74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9D5E28-F33A-494A-908A-35DC06835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42A199-105C-4A5F-AEE1-D59376539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44B89-B31E-4CF5-8954-6A7CB486E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D3D826-9D93-4F50-8048-A4B9A9C49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F957-E5D4-4722-83FA-03E03694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127D1-E459-47E3-B6AA-CECA424B5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814D8-15C0-4728-839B-2EDCC1A79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AEA41-B1A8-4C37-97B3-BB962B478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6F4F7-AB86-4FFD-8038-A08DCD60C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DB2B6-C922-4A21-9EA4-E704734C6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5ADF8-E149-42E8-B0FF-0B7612B3E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83953-CE4A-4072-8B0D-F9E9C5C2B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27C9D8-5388-404A-8D0B-033DFC7A48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38331A-8D7F-40D1-B133-907A0421F7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9CFC06-8039-4D0D-BC16-40DC54CAC6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98FF6-06C3-4D0B-A2B9-B33D861D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F2592-A750-4DFB-9281-82215E946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EAFFA-5273-4E4A-9B30-1BC3F7275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A13512-D18E-4851-A353-FA78E3062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71F4A-C0DB-4EED-8F85-3AE3A9F33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5D8E0-8E63-4E8B-A2B3-DA64C7BB7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5827C-CB12-44DD-9C81-E60C0DA52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44414-4758-4D2F-848F-22D8DD9C0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BAF92-D8C9-4034-9F3F-25D6B141E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961C4-6219-4440-A11F-9BB3E3DBD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CF2EE7-241A-4472-8F0D-6A3FD34204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BEAE-54F3-48AB-BBD5-D58B159B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F16CF-F6DD-4E77-A4C1-84154FE0B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2EEBF4-D12B-427D-B4A8-3D8691A0C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0A2FB-EE60-4795-95FE-CC0B5FA16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ECB8B-4DA0-44A1-966D-406357D76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4EB60-1A6D-4629-ABFC-5B91F6C4D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57796-2DA3-4D10-AB64-B454AC5A1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804DE-1723-4E3E-A515-47CF21D03A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6E427-E5D5-49A0-88B0-3667D8177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14DE0-1DC3-406E-B03A-9425BA7CA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9D733-C9F3-4682-804A-D21B7CAAE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EC5D-F44E-4F67-B702-F19AC420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D1670-4F50-4E6A-A1E7-A9A64F2B22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FA7CA-039F-4E8B-B324-2CB281CFE8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906583-772A-4986-9DD9-BDA703D6F2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76874-871E-4FCA-89D2-F647157792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002AD-D6AD-4938-969E-0593C9F22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0BCBF-4C5C-4AC4-939A-F925B95D05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AA73E-97BA-449A-921A-67711D2E6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380F9-8B10-45ED-8F46-65F90A16E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C0CC91-7522-4BAF-8813-6B46338F59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B02C1-D3CD-4C78-850C-CE2495471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97C6-F29B-4331-80A7-564341E09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5B36A-E13B-46DF-BB89-887763523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D490D-30D4-4E9D-96B7-D248EC3D3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1C67F2-1F34-4C69-B300-D5F121C8D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A1F614-4C27-49C3-87CE-F427D8A9C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3418BC-452C-4FBD-872B-44A21C3E90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BF1C-27AD-4814-B936-B6D7FDCF4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6D98-D703-4293-A2B7-7C0342DD98F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30FD-0498-496B-A00C-C19CF45BA1B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2CF8-A640-4875-B024-7046ACD3C38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6085-2194-4E52-8A2A-F26A846D7AE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C3D4-62CD-49E5-99C9-99D98C48E7E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901F-4B4B-43FD-8C01-B0C8DE0729A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090B-4487-4EFD-9D08-5AF271702F4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82560" y="3181320"/>
            <a:ext cx="8089920" cy="1854360"/>
          </a:xfrm>
          <a:prstGeom prst="rect">
            <a:avLst/>
          </a:prstGeom>
          <a:ln w="0">
            <a:noFill/>
          </a:ln>
        </p:spPr>
      </p:pic>
      <p:sp>
        <p:nvSpPr>
          <p:cNvPr id="311" name="PlaceHolder 1"/>
          <p:cNvSpPr>
            <a:spLocks noGrp="1"/>
          </p:cNvSpPr>
          <p:nvPr>
            <p:ph type="subTitle"/>
          </p:nvPr>
        </p:nvSpPr>
        <p:spPr>
          <a:xfrm>
            <a:off x="685440" y="304920"/>
            <a:ext cx="8077320" cy="302400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rbel"/>
              </a:rPr>
              <a:t>	</a:t>
            </a:r>
            <a:r>
              <a:rPr b="0" lang="en-US" sz="6000" spc="-1" strike="noStrike">
                <a:solidFill>
                  <a:srgbClr val="ffffff"/>
                </a:solidFill>
                <a:latin typeface="Corbel"/>
              </a:rPr>
              <a:t>	</a:t>
            </a:r>
            <a:r>
              <a:rPr b="0" lang="en-US" sz="6000" spc="-1" strike="noStrike">
                <a:solidFill>
                  <a:srgbClr val="ffffff"/>
                </a:solidFill>
                <a:latin typeface="Corbel"/>
              </a:rPr>
              <a:t>The Desert</a:t>
            </a:r>
            <a:endParaRPr b="0" lang="en-US" sz="6000" spc="-1" strike="noStrike">
              <a:solidFill>
                <a:srgbClr val="ffffff"/>
              </a:solidFill>
              <a:latin typeface="Corbe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79200" y="152280"/>
            <a:ext cx="2614680" cy="987480"/>
          </a:xfrm>
          <a:prstGeom prst="rect">
            <a:avLst/>
          </a:prstGeom>
          <a:ln w="0">
            <a:noFill/>
          </a:ln>
        </p:spPr>
      </p:pic>
      <p:sp>
        <p:nvSpPr>
          <p:cNvPr id="341" name="PlaceHolder 1"/>
          <p:cNvSpPr>
            <a:spLocks noGrp="1"/>
          </p:cNvSpPr>
          <p:nvPr>
            <p:ph/>
          </p:nvPr>
        </p:nvSpPr>
        <p:spPr>
          <a:xfrm>
            <a:off x="164880" y="1728720"/>
            <a:ext cx="2468520" cy="4572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2"/>
          <a:srcRect l="1297" t="0" r="1297" b="0"/>
          <a:stretch/>
        </p:blipFill>
        <p:spPr>
          <a:xfrm>
            <a:off x="2971800" y="1523880"/>
            <a:ext cx="618012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9320" y="152280"/>
            <a:ext cx="2644560" cy="987480"/>
          </a:xfrm>
          <a:prstGeom prst="rect">
            <a:avLst/>
          </a:prstGeom>
          <a:ln w="0">
            <a:noFill/>
          </a:ln>
        </p:spPr>
      </p:pic>
      <p:pic>
        <p:nvPicPr>
          <p:cNvPr id="313" name="" descr=""/>
          <p:cNvPicPr/>
          <p:nvPr/>
        </p:nvPicPr>
        <p:blipFill>
          <a:blip r:embed="rId2"/>
          <a:stretch/>
        </p:blipFill>
        <p:spPr>
          <a:xfrm>
            <a:off x="2903040" y="1483920"/>
            <a:ext cx="6248520" cy="5373720"/>
          </a:xfrm>
          <a:prstGeom prst="rect">
            <a:avLst/>
          </a:prstGeom>
          <a:ln w="0">
            <a:noFill/>
          </a:ln>
        </p:spPr>
      </p:pic>
      <p:sp>
        <p:nvSpPr>
          <p:cNvPr id="314" name="PlaceHolder 1"/>
          <p:cNvSpPr>
            <a:spLocks noGrp="1"/>
          </p:cNvSpPr>
          <p:nvPr>
            <p:ph/>
          </p:nvPr>
        </p:nvSpPr>
        <p:spPr>
          <a:xfrm>
            <a:off x="228240" y="1676520"/>
            <a:ext cx="2468520" cy="4572000"/>
          </a:xfrm>
          <a:prstGeom prst="rect">
            <a:avLst/>
          </a:prstGeom>
          <a:noFill/>
          <a:ln w="0">
            <a:noFill/>
          </a:ln>
        </p:spPr>
        <p:txBody>
          <a:bodyPr lIns="54720" tIns="9144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  desert animal is the Prairie dog .To start</a:t>
            </a:r>
            <a:r>
              <a:rPr b="0" lang="en-US" sz="1400" spc="-1" strike="noStrike">
                <a:solidFill>
                  <a:srgbClr val="000000"/>
                </a:solidFill>
                <a:latin typeface="Corbel"/>
              </a:rPr>
              <a:t>, </a:t>
            </a:r>
            <a:r>
              <a:rPr b="0" lang="en-US" sz="1600" spc="-1" strike="noStrike">
                <a:solidFill>
                  <a:srgbClr val="000000"/>
                </a:solidFill>
                <a:latin typeface="Corbel"/>
              </a:rPr>
              <a:t>the prairie  dog weighs 1.5-3  pounds. The length with tail is 3-5  inches . The height is 3-4 inches .The  prairie  dogs maturity is at          1 year  .  Then, they mate in March  through  April.  Prairie dogs belong to the rodent  family. They may  have  3-8 babies. The life span is 3-5 years in the wild. There are 5  types of prairie dogs in   North  America. Finally, prairie dogs live in colonies.</a:t>
            </a:r>
            <a:endParaRPr b="0" lang="en-US" sz="1600" spc="-1" strike="noStrike">
              <a:solidFill>
                <a:srgbClr val="000000"/>
              </a:solidFill>
              <a:latin typeface="Corbel"/>
            </a:endParaRPr>
          </a:p>
        </p:txBody>
      </p:sp>
      <p:pic>
        <p:nvPicPr>
          <p:cNvPr id="315" name="Picture 4" descr="C:\Documents and Settings\2014976\Local Settings\Temporary Internet Files\Content.IE5\HKVD9CJS\MP900262584[1].jpg"/>
          <p:cNvPicPr/>
          <p:nvPr/>
        </p:nvPicPr>
        <p:blipFill>
          <a:blip r:embed="rId3"/>
          <a:stretch/>
        </p:blipFill>
        <p:spPr>
          <a:xfrm>
            <a:off x="2895480" y="1600200"/>
            <a:ext cx="6248520" cy="54100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2600" y="152280"/>
            <a:ext cx="2706480" cy="987480"/>
          </a:xfrm>
          <a:prstGeom prst="rect">
            <a:avLst/>
          </a:prstGeom>
          <a:ln w="0">
            <a:noFill/>
          </a:ln>
        </p:spPr>
      </p:pic>
      <p:pic>
        <p:nvPicPr>
          <p:cNvPr id="317" name="" descr=""/>
          <p:cNvPicPr/>
          <p:nvPr/>
        </p:nvPicPr>
        <p:blipFill>
          <a:blip r:embed="rId2"/>
          <a:stretch/>
        </p:blipFill>
        <p:spPr>
          <a:xfrm>
            <a:off x="2897280" y="1483920"/>
            <a:ext cx="6246720" cy="5373720"/>
          </a:xfrm>
          <a:prstGeom prst="rect">
            <a:avLst/>
          </a:prstGeom>
          <a:ln w="0">
            <a:noFill/>
          </a:ln>
        </p:spPr>
      </p:pic>
      <p:sp>
        <p:nvSpPr>
          <p:cNvPr id="318" name="PlaceHolder 1"/>
          <p:cNvSpPr>
            <a:spLocks noGrp="1"/>
          </p:cNvSpPr>
          <p:nvPr>
            <p:ph/>
          </p:nvPr>
        </p:nvSpPr>
        <p:spPr>
          <a:xfrm>
            <a:off x="304560" y="1676520"/>
            <a:ext cx="2468520" cy="4572000"/>
          </a:xfrm>
          <a:prstGeom prst="rect">
            <a:avLst/>
          </a:prstGeom>
          <a:noFill/>
          <a:ln w="0">
            <a:noFill/>
          </a:ln>
        </p:spPr>
        <p:txBody>
          <a:bodyPr lIns="54720" tIns="9144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corpion is a very interesting animal in the desert.To start, it has a crab like apperance because it has a shell.secondly, it has four pairs of legs.Finally, the scorpions, are carnivores.They eat  insects,spiders, and other  scorpions.</a:t>
            </a:r>
            <a:endParaRPr b="0" lang="en-US" sz="2000" spc="-1" strike="noStrike">
              <a:solidFill>
                <a:srgbClr val="000000"/>
              </a:solidFill>
              <a:latin typeface="Corbel"/>
            </a:endParaRPr>
          </a:p>
        </p:txBody>
      </p:sp>
      <p:pic>
        <p:nvPicPr>
          <p:cNvPr id="319" name="Picture 6" descr="http://johnbokma.com/mexit/2008/03/01/scorpions-centruroides-species-mating-uv-close-up.jpg"/>
          <p:cNvPicPr/>
          <p:nvPr/>
        </p:nvPicPr>
        <p:blipFill>
          <a:blip r:embed="rId3"/>
          <a:stretch/>
        </p:blipFill>
        <p:spPr>
          <a:xfrm>
            <a:off x="2895480" y="1447920"/>
            <a:ext cx="6248520" cy="541008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9320" y="152280"/>
            <a:ext cx="2644560" cy="987480"/>
          </a:xfrm>
          <a:prstGeom prst="rect">
            <a:avLst/>
          </a:prstGeom>
          <a:ln w="0">
            <a:noFill/>
          </a:ln>
        </p:spPr>
      </p:pic>
      <p:sp>
        <p:nvSpPr>
          <p:cNvPr id="321" name="PlaceHolder 1"/>
          <p:cNvSpPr>
            <a:spLocks noGrp="1"/>
          </p:cNvSpPr>
          <p:nvPr>
            <p:ph/>
          </p:nvPr>
        </p:nvSpPr>
        <p:spPr>
          <a:xfrm>
            <a:off x="-360" y="1676160"/>
            <a:ext cx="2895480" cy="4343400"/>
          </a:xfrm>
          <a:prstGeom prst="rect">
            <a:avLst/>
          </a:prstGeom>
          <a:noFill/>
          <a:ln w="0">
            <a:noFill/>
          </a:ln>
        </p:spPr>
        <p:txBody>
          <a:bodyPr lIns="54720" tIns="91440" anchor="t">
            <a:normAutofit fontScale="8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bat is another animal that lives in the desert. For starters, the bat eats insects. They also eat cactus nectar. When it’s night they come to hunt. Bats weigh 3 to6 pounds. The Mexican free black tailed bat  sleeps during the day and comes out in the night. They use echolocation to find their food. The bat is a consumer. It can eat insects so it is a carnivore.  Finally, this is one type of bat in the desert.</a:t>
            </a:r>
            <a:endParaRPr b="0" lang="en-US" sz="2000" spc="-1" strike="noStrike">
              <a:solidFill>
                <a:srgbClr val="000000"/>
              </a:solidFill>
              <a:latin typeface="Corbel"/>
            </a:endParaRPr>
          </a:p>
        </p:txBody>
      </p:sp>
      <p:pic>
        <p:nvPicPr>
          <p:cNvPr id="322" name="Picture 6" descr="http://www.abdn.ac.uk/~nhi708/classify/animalia/chordata/mammalia/chiroptera/bat.jpg"/>
          <p:cNvPicPr/>
          <p:nvPr/>
        </p:nvPicPr>
        <p:blipFill>
          <a:blip r:embed="rId2"/>
          <a:srcRect l="7377" t="0" r="7377" b="0"/>
          <a:stretch/>
        </p:blipFill>
        <p:spPr>
          <a:xfrm>
            <a:off x="2897280" y="1484280"/>
            <a:ext cx="6246720" cy="5373720"/>
          </a:xfrm>
          <a:prstGeom prst="rect">
            <a:avLst/>
          </a:prstGeom>
          <a:ln w="0">
            <a:noFill/>
          </a:ln>
        </p:spPr>
      </p:pic>
      <p:pic>
        <p:nvPicPr>
          <p:cNvPr id="323" name="MS900069173[1].wav" descr=""/>
          <p:cNvPicPr/>
          <p:nvPr/>
        </p:nvPicPr>
        <p:blipFill>
          <a:blip r:embed="rId3"/>
          <a:stretch/>
        </p:blipFill>
        <p:spPr>
          <a:xfrm>
            <a:off x="914400" y="762120"/>
            <a:ext cx="387360" cy="53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ppt_x"/>
                                          </p:val>
                                        </p:tav>
                                        <p:tav tm="100000">
                                          <p:val>
                                            <p:strVal val="#ppt_x"/>
                                          </p:val>
                                        </p:tav>
                                      </p:tavLst>
                                    </p:anim>
                                    <p:anim calcmode="lin" valueType="num">
                                      <p:cBhvr additive="base">
                                        <p:cTn id="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323"/>
                    </p:tgtEl>
                  </p:cond>
                </p:stCondLst>
                <p:childTnLst>
                  <p:par>
                    <p:cTn id="10" fill="hold">
                      <p:stCondLst>
                        <p:cond evt="onClick">
                          <p:tgtEl>
                            <p:spTgt spid="323"/>
                          </p:tgtEl>
                        </p:cond>
                      </p:stCondLst>
                      <p:childTnLst>
                        <p:par>
                          <p:cTn id="11" fill="hold">
                            <p:stCondLst>
                              <p:cond delay="0"/>
                            </p:stCondLst>
                            <p:childTnLst>
                              <p:par>
                                <p:cTn id="12" nodeType="clickEffect" fill="hold" presetClass="mediacall" presetID="1">
                                  <p:stCondLst>
                                    <p:cond delay="0"/>
                                  </p:stCondLst>
                                  <p:childTnLst>
                                    <p:cmd type="call" cmd="playFrom(0.0)">
                                      <p:cBhvr>
                                        <p:cTn id="13" dur="5307"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79200" y="152280"/>
            <a:ext cx="2614680" cy="987480"/>
          </a:xfrm>
          <a:prstGeom prst="rect">
            <a:avLst/>
          </a:prstGeom>
          <a:ln w="0">
            <a:noFill/>
          </a:ln>
        </p:spPr>
      </p:pic>
      <p:pic>
        <p:nvPicPr>
          <p:cNvPr id="325" name="Picture Placeholder 4" descr="fernndo.jpg"/>
          <p:cNvPicPr/>
          <p:nvPr/>
        </p:nvPicPr>
        <p:blipFill>
          <a:blip r:embed="rId2"/>
          <a:srcRect l="6450" t="0" r="6450" b="0"/>
          <a:stretch/>
        </p:blipFill>
        <p:spPr>
          <a:xfrm>
            <a:off x="2903400" y="1523880"/>
            <a:ext cx="6248520" cy="5334120"/>
          </a:xfrm>
          <a:prstGeom prst="rect">
            <a:avLst/>
          </a:prstGeom>
          <a:ln w="0">
            <a:noFill/>
          </a:ln>
        </p:spPr>
      </p:pic>
      <p:sp>
        <p:nvSpPr>
          <p:cNvPr id="326" name="PlaceHolder 1"/>
          <p:cNvSpPr>
            <a:spLocks noGrp="1"/>
          </p:cNvSpPr>
          <p:nvPr>
            <p:ph/>
          </p:nvPr>
        </p:nvSpPr>
        <p:spPr>
          <a:xfrm>
            <a:off x="228240" y="1752480"/>
            <a:ext cx="2468520" cy="45720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exican Wolf  is another animal that lives in the desert. First and foremost, it is almost extinct.  Yet another  fact about the wolf is that his fur is gray. It has 3-4 babies. It is a carnivore. </a:t>
            </a:r>
            <a:endParaRPr b="0" lang="en-US" sz="2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y eat prairie dogs and rats. </a:t>
            </a:r>
            <a:endParaRPr b="0" lang="en-US" sz="2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s pup is four weeks old and is heading to his den. </a:t>
            </a:r>
            <a:endParaRPr b="0" lang="en-US" sz="2000" spc="-1" strike="noStrike">
              <a:solidFill>
                <a:srgbClr val="000000"/>
              </a:solidFill>
              <a:latin typeface="Corbel"/>
            </a:endParaRPr>
          </a:p>
        </p:txBody>
      </p:sp>
      <p:pic>
        <p:nvPicPr>
          <p:cNvPr id="327" name="MS900069431[1].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5262"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79200" y="152280"/>
            <a:ext cx="2614680" cy="987480"/>
          </a:xfrm>
          <a:prstGeom prst="rect">
            <a:avLst/>
          </a:prstGeom>
          <a:ln w="0">
            <a:noFill/>
          </a:ln>
        </p:spPr>
      </p:pic>
      <p:sp>
        <p:nvSpPr>
          <p:cNvPr id="329" name="PlaceHolder 1"/>
          <p:cNvSpPr>
            <a:spLocks noGrp="1"/>
          </p:cNvSpPr>
          <p:nvPr>
            <p:ph/>
          </p:nvPr>
        </p:nvSpPr>
        <p:spPr>
          <a:xfrm>
            <a:off x="228240" y="19051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esert  tree yucca is very  interesting plant  in desert.                           This desert plant is a 10-18 foot plant. The  tree yucca is so called for the presence of a soap like material .  It is used for  decorations. Last but not least,  the soap tree yucca makes it’s  own food. </a:t>
            </a:r>
            <a:endParaRPr b="0" lang="en-US" sz="2000" spc="-1" strike="noStrike">
              <a:solidFill>
                <a:srgbClr val="000000"/>
              </a:solidFill>
              <a:latin typeface="Corbel"/>
            </a:endParaRPr>
          </a:p>
        </p:txBody>
      </p:sp>
      <p:pic>
        <p:nvPicPr>
          <p:cNvPr id="330" name="Picture 6" descr="http://www.naturesongs.com/vvplants/soaptree6.jpg"/>
          <p:cNvPicPr/>
          <p:nvPr/>
        </p:nvPicPr>
        <p:blipFill>
          <a:blip r:embed="rId2"/>
          <a:srcRect l="0" t="17752" r="0" b="17752"/>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79200" y="152280"/>
            <a:ext cx="2614680" cy="987480"/>
          </a:xfrm>
          <a:prstGeom prst="rect">
            <a:avLst/>
          </a:prstGeom>
          <a:ln w="0">
            <a:noFill/>
          </a:ln>
        </p:spPr>
      </p:pic>
      <p:sp>
        <p:nvSpPr>
          <p:cNvPr id="332" name="PlaceHolder 1"/>
          <p:cNvSpPr>
            <a:spLocks noGrp="1"/>
          </p:cNvSpPr>
          <p:nvPr>
            <p:ph/>
          </p:nvPr>
        </p:nvSpPr>
        <p:spPr>
          <a:xfrm>
            <a:off x="164880" y="17287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gelina stonecrop  is  a fast growing plant that stays short. It produces clusters of star shaped yellow blooms. In the growing season the needle like foliage will turn gold. Tints of orange or rust must come into foliage in fall. Angelina stays green all winter long.</a:t>
            </a:r>
            <a:endParaRPr b="0" lang="en-US" sz="2000" spc="-1" strike="noStrike">
              <a:solidFill>
                <a:srgbClr val="000000"/>
              </a:solidFill>
              <a:latin typeface="Corbel"/>
            </a:endParaRPr>
          </a:p>
        </p:txBody>
      </p:sp>
      <p:pic>
        <p:nvPicPr>
          <p:cNvPr id="333" name="Picture 6" descr="http://t0.gstatic.com/images?q=tbn:ANd9GcQWIRPey8qXAXG9lQYbj2_bbBFre30m6BgSW5niRw1HJ2K0n16J&amp;t=1"/>
          <p:cNvPicPr/>
          <p:nvPr/>
        </p:nvPicPr>
        <p:blipFill>
          <a:blip r:embed="rId2"/>
          <a:srcRect l="6450" t="0" r="6450" b="0"/>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79200" y="152280"/>
            <a:ext cx="2614680" cy="987480"/>
          </a:xfrm>
          <a:prstGeom prst="rect">
            <a:avLst/>
          </a:prstGeom>
          <a:ln w="0">
            <a:noFill/>
          </a:ln>
        </p:spPr>
      </p:pic>
      <p:sp>
        <p:nvSpPr>
          <p:cNvPr id="335" name="PlaceHolder 1"/>
          <p:cNvSpPr>
            <a:spLocks noGrp="1"/>
          </p:cNvSpPr>
          <p:nvPr>
            <p:ph/>
          </p:nvPr>
        </p:nvSpPr>
        <p:spPr>
          <a:xfrm>
            <a:off x="164880" y="17287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esert spoon is a type of  plant in the desert. To start, it can store water inside. They are thick to reduce water loss. Secondly, the desert spoon’s leaves are trimmed. The indians  used them in baskets. Finally, the woody stems are used to make juce called sotol Mmmmmmm!</a:t>
            </a:r>
            <a:endParaRPr b="0" lang="en-US" sz="2000" spc="-1" strike="noStrike">
              <a:solidFill>
                <a:srgbClr val="000000"/>
              </a:solidFill>
              <a:latin typeface="Corbel"/>
            </a:endParaRPr>
          </a:p>
        </p:txBody>
      </p:sp>
      <p:pic>
        <p:nvPicPr>
          <p:cNvPr id="336" name="Picture 6" descr="http://img4.sunset.com/i/2000/10/desert-spoon-sotol-m.jpg?300:300"/>
          <p:cNvPicPr/>
          <p:nvPr/>
        </p:nvPicPr>
        <p:blipFill>
          <a:blip r:embed="rId2"/>
          <a:srcRect l="0" t="7004" r="0" b="7004"/>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79200" y="152280"/>
            <a:ext cx="2614680" cy="987480"/>
          </a:xfrm>
          <a:prstGeom prst="rect">
            <a:avLst/>
          </a:prstGeom>
          <a:ln w="0">
            <a:noFill/>
          </a:ln>
        </p:spPr>
      </p:pic>
      <p:sp>
        <p:nvSpPr>
          <p:cNvPr id="338" name="PlaceHolder 1"/>
          <p:cNvSpPr>
            <a:spLocks noGrp="1"/>
          </p:cNvSpPr>
          <p:nvPr>
            <p:ph/>
          </p:nvPr>
        </p:nvSpPr>
        <p:spPr>
          <a:xfrm>
            <a:off x="164880" y="1728720"/>
            <a:ext cx="2468520" cy="4572000"/>
          </a:xfrm>
          <a:prstGeom prst="rect">
            <a:avLst/>
          </a:prstGeom>
          <a:noFill/>
          <a:ln w="0">
            <a:noFill/>
          </a:ln>
        </p:spPr>
        <p:txBody>
          <a:bodyPr lIns="54720" tIns="9144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loe is very interesting plant. The Aloe has a waxy surface that keeps water  inside . The juice inside has been used for centuries by Natives for medicine.  It is used by doctors. Many  people keep them in their home. Aloe helps burns.</a:t>
            </a:r>
            <a:endParaRPr b="0" lang="en-US" sz="2000" spc="-1" strike="noStrike">
              <a:solidFill>
                <a:srgbClr val="000000"/>
              </a:solidFill>
              <a:latin typeface="Corbel"/>
            </a:endParaRPr>
          </a:p>
        </p:txBody>
      </p:sp>
      <p:pic>
        <p:nvPicPr>
          <p:cNvPr id="339" name="Picture 6" descr="http://keetsa.com/blog/wp-content/uploads/2009/06/aloe-vera-plant.jpg"/>
          <p:cNvPicPr/>
          <p:nvPr/>
        </p:nvPicPr>
        <p:blipFill>
          <a:blip r:embed="rId2"/>
          <a:srcRect l="0" t="3637" r="0" b="3637"/>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1:12:19Z</dcterms:created>
  <dc:creator>user</dc:creator>
  <dc:description/>
  <dc:language>en-US</dc:language>
  <cp:lastModifiedBy>user</cp:lastModifiedBy>
  <dcterms:modified xsi:type="dcterms:W3CDTF">2011-03-24T21:08:16Z</dcterms:modified>
  <cp:revision>34</cp:revision>
  <dc:subject/>
  <dc:title>Presentation by:  Fernando and Lorenzo</dc:title>
</cp:coreProperties>
</file>